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57403"/>
        <c:axId val="59414772"/>
      </c:barChart>
      <c:catAx>
        <c:axId val="67957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14772"/>
        <c:crosses val="autoZero"/>
        <c:auto val="1"/>
        <c:lblAlgn val="ctr"/>
        <c:lblOffset val="100"/>
        <c:noMultiLvlLbl val="0"/>
      </c:catAx>
      <c:valAx>
        <c:axId val="59414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57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F42-E202-477D-9FA0-EEC98D63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DB3-F3D0-4F92-A4D3-CF42B8F0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5F7-6D10-42B0-ADB1-14569330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712-0342-49FB-A05C-48A4A896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99D-7579-4DDC-A293-59B07BAF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323-CEF3-47A1-8434-3741210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3BF-5D25-436D-8108-49DB10E9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FF5-95D5-4681-ABF5-39F4F472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465-6758-4CB3-AD37-4BA67E1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E9C-1B2C-4354-AE52-BAF3BDE0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762-487E-4375-BCE1-6BC6533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BAE-35CD-4435-8C53-C6F5CA7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45FA-5F31-432C-9F92-830FD40B6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