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81656"/>
        <c:axId val="45342513"/>
      </c:barChart>
      <c:catAx>
        <c:axId val="87981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42513"/>
        <c:crosses val="autoZero"/>
        <c:auto val="1"/>
        <c:lblAlgn val="ctr"/>
        <c:lblOffset val="100"/>
        <c:noMultiLvlLbl val="0"/>
      </c:catAx>
      <c:valAx>
        <c:axId val="45342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1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84E-D84B-4CE6-9C32-A9348ED4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BF4-F227-48D8-B04B-2CFDF686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139-A9D6-470A-87A0-076885E9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02C-B236-4919-98E0-92496E81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F9F-912B-4271-83EF-672AAE24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451-B4B1-44A4-B5B6-EC132C4A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87B-639F-437F-BB0B-3873DDAB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EAC-FB0F-4AE4-937D-53E497AB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BEC-B015-4A4C-84C5-D69042A6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EEE-BC61-4001-B8E5-3F69B53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A0C-0713-4E89-A464-8383AF3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E1B-E5A3-49E3-B3F6-023CD4D8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0852B-427A-46C4-9194-EF317B9A9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