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27228"/>
        <c:axId val="8299263"/>
      </c:barChart>
      <c:catAx>
        <c:axId val="74427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263"/>
        <c:crosses val="autoZero"/>
        <c:auto val="1"/>
        <c:lblAlgn val="ctr"/>
        <c:lblOffset val="100"/>
        <c:noMultiLvlLbl val="0"/>
      </c:catAx>
      <c:valAx>
        <c:axId val="8299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27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765-4D7A-45A6-B366-04124137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BE8-E2DA-4838-BB1D-E4C95783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E64-7408-4978-94B7-B7F156C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BDC-34D7-4657-9A18-B5A1BB4E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629-4D2B-495B-B4C2-69474A4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437-2BD7-4F74-963D-C3CCC33C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FA5-7F33-409B-83D4-D811EFC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4F0-0E5C-4289-BDBF-124D596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866-593D-45D5-8738-2AF6DC4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E86-5418-4810-84DB-695B451B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3E7-471E-482B-B5AB-2ADB9D0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845-4ACC-4219-847F-3D7A520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DF8D1-45DB-4984-9D12-C8DDCC705E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