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42391"/>
        <c:axId val="27850548"/>
      </c:barChart>
      <c:catAx>
        <c:axId val="63342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0548"/>
        <c:crosses val="autoZero"/>
        <c:auto val="1"/>
        <c:lblAlgn val="ctr"/>
        <c:lblOffset val="100"/>
        <c:noMultiLvlLbl val="0"/>
      </c:catAx>
      <c:valAx>
        <c:axId val="27850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42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6EF-458A-4A73-8236-ADB596A8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37F-0DD1-4419-9F57-C602F8F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749-D5E3-4F1D-B430-87689BCC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03B-FCC8-4F18-B3D8-5765B3F4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607-0F23-4C00-9EB3-089D69FD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79C-BC31-4B51-B91B-E6B1B5C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0C2-6A17-44B6-872D-368F311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F74-8D7A-42F6-A2C4-984C8B68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CAC-D6F2-4093-9C3A-171DC33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127-1153-4D4D-988C-3160F07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01B-5DE9-4322-84B6-766856E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947-96E0-445C-B2ED-9E7FE8F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8D5DC-7418-495E-BA28-603723A67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