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333444"/>
        <c:axId val="78680403"/>
      </c:barChart>
      <c:catAx>
        <c:axId val="933334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80403"/>
        <c:crosses val="autoZero"/>
        <c:auto val="1"/>
        <c:lblAlgn val="ctr"/>
        <c:lblOffset val="100"/>
        <c:noMultiLvlLbl val="0"/>
      </c:catAx>
      <c:valAx>
        <c:axId val="786804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334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F580-AD0F-4B1B-BD81-F7CE2377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1B75-0374-4586-8A28-681C6D0E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BCAA-0EAD-418E-99EF-F49CEA3B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BC50-1458-431B-9E8B-CC86F3DF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C3E5-BBD3-4FCB-BAE6-409AE9C0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DC66-0E4B-407A-9464-AB3B4CF6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C1C-5B3D-4D97-9843-77A21477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E2C1-691C-433A-BCF2-7A4947DD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0F40-0BD6-4E0F-B553-57899962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EB56-42CD-4FAB-A0D8-DFE4482E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EFA5-6CAF-432C-9C9A-80129A1F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FEB2-5808-468E-A8E8-CCB1D049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F644B-C6CD-4030-9075-FF2BA4696C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