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848083"/>
        <c:axId val="68057829"/>
      </c:barChart>
      <c:catAx>
        <c:axId val="548480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057829"/>
        <c:crosses val="autoZero"/>
        <c:auto val="1"/>
        <c:lblAlgn val="ctr"/>
        <c:lblOffset val="100"/>
        <c:noMultiLvlLbl val="0"/>
      </c:catAx>
      <c:valAx>
        <c:axId val="680578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8480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9253-1DB2-470C-A4F7-45C32F9E7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07C8-8F0C-4246-ACF9-DBA48148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7592-9DBA-428E-824A-9D662F9DF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DA46-02E8-4B45-A64E-7D767E976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0A7C-0771-46B2-A9BC-D7B07FBB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9ADA-F865-4A38-99E8-5E719796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2B0A-D7A6-4EB6-BB33-89513731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F4D4-563D-410B-901D-EA761623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F48A-F370-4E41-8610-AE154AB1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5F5D-088A-496B-8BDA-1E00FA53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D0E4-C53F-4326-92F1-74689546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AE7C-EEE7-43F3-9F23-1A1CFF0D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E70ABE-AC47-411E-AE68-13EB07C229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