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966002"/>
        <c:axId val="29360969"/>
      </c:barChart>
      <c:catAx>
        <c:axId val="899660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360969"/>
        <c:crosses val="autoZero"/>
        <c:auto val="1"/>
        <c:lblAlgn val="ctr"/>
        <c:lblOffset val="100"/>
        <c:noMultiLvlLbl val="0"/>
      </c:catAx>
      <c:valAx>
        <c:axId val="293609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660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58FF-20D0-4F68-B4C5-B5FB1D3F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7FD5-A204-49F0-9656-1413178D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7F04-9709-44A4-9564-89E2FD08E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1874-CCAB-495D-B100-F807DECED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AA41-6DE9-464C-B324-E79EE3D3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64F7-E2E3-4E06-8131-EA078B39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25A0-CCD5-411F-8383-5E3862B4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1A5E-EB01-4E31-8EE7-B74A9295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D3FC-ABE3-4D10-8DBD-187E0C08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D6F6-2B7D-4420-BA24-26336161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65A1-2A5E-46FB-82E8-4F08C63E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58C8-1D05-4C64-AEB2-7623C6BB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68606-FCC6-401F-98CA-DC0F0D4576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