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613633"/>
        <c:axId val="3932150"/>
      </c:barChart>
      <c:catAx>
        <c:axId val="706136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2150"/>
        <c:crosses val="autoZero"/>
        <c:auto val="1"/>
        <c:lblAlgn val="ctr"/>
        <c:lblOffset val="100"/>
        <c:noMultiLvlLbl val="0"/>
      </c:catAx>
      <c:valAx>
        <c:axId val="39321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136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D64D-75BA-47FE-837B-984A933D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0C49-2827-4D87-8074-5EA904D8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EC44-B226-4744-8F5B-033219F6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8E05-4EF4-40E6-9CDF-76E29F04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751F-5DE9-44AA-BDE6-1EA1C4DE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F454-5AB1-445B-8449-03A4A740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D53E-F3A9-427B-9B6F-48CA7134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5A74-18B7-4FB6-A41A-A7161A44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9596-649F-440C-84C9-159838F1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77B-89ED-4E33-B3E9-9BA58934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B13F-55A0-4C85-A6F6-1146647B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C522-1E04-4A8C-B2B3-AD84EC7C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38D12-3A45-43DB-B00B-BFB3D48602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