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32775"/>
        <c:axId val="89157078"/>
      </c:barChart>
      <c:catAx>
        <c:axId val="35532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57078"/>
        <c:crosses val="autoZero"/>
        <c:auto val="1"/>
        <c:lblAlgn val="ctr"/>
        <c:lblOffset val="100"/>
        <c:noMultiLvlLbl val="0"/>
      </c:catAx>
      <c:valAx>
        <c:axId val="89157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32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1DD-4A38-4003-A844-9F7A8526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CC1-AF24-4533-A14F-175B00C6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5AF-F228-46CA-B8FF-76E0B4DD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77A-46DB-4830-8383-353C1C40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953-B77F-4169-949C-49B17DC5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126-255F-4E5D-8211-9A4C0970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180-B96E-4382-8785-1D1CDCD0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867-7093-45C5-A38C-5D1E47EA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ADB-2F2E-41D0-AB15-C16E3A7C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FC4-6D4F-40EF-B78F-1C24C7FB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6F7-C01D-4C30-8FB2-76EA7136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D7E-FA08-424C-8BB4-C937A534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8CCC1-DAE4-44BA-9FC3-1C08F941FF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