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80427"/>
        <c:axId val="92989573"/>
      </c:barChart>
      <c:catAx>
        <c:axId val="29480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89573"/>
        <c:crosses val="autoZero"/>
        <c:auto val="1"/>
        <c:lblAlgn val="ctr"/>
        <c:lblOffset val="100"/>
        <c:noMultiLvlLbl val="0"/>
      </c:catAx>
      <c:valAx>
        <c:axId val="92989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80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711-DDAE-4103-8FE8-7C321855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331-3828-4978-A42F-EC531F4D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E5E-706F-470D-B121-87F8A1FC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B1B-DC87-45FD-8011-5786A914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E85-3BA2-4B9F-B5A9-27061D61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033-EA24-4D3C-AD57-D6B3C442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D42-73FD-4983-A0A7-7F3E9005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C9E-6589-41BF-A1BF-10B1C68E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861-968E-42B2-9841-FD3A3261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D59-9EEB-46AD-8921-EE3373CE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43C-810E-4B5A-8C9C-B0AA255C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ECC-3F8A-4B16-8276-A95B08DA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7B1FB-7FBF-4675-B33F-E7874F7184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