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086229"/>
        <c:axId val="33708245"/>
      </c:barChart>
      <c:catAx>
        <c:axId val="460862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708245"/>
        <c:crosses val="autoZero"/>
        <c:auto val="1"/>
        <c:lblAlgn val="ctr"/>
        <c:lblOffset val="100"/>
        <c:noMultiLvlLbl val="0"/>
      </c:catAx>
      <c:valAx>
        <c:axId val="337082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0862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D2E1-E61A-4872-9235-D64F10AC9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18E4-B51B-4662-9B53-B0BB6780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9B41-E784-4C1D-BA8D-49458800E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A699-49A0-4BFA-BB42-2A106FCBF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FC35-FCF8-4E33-8646-ECA87C62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DE0E-1F12-4920-9BD0-1801F48D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74A7-7C6E-4704-90FF-8197C3B1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E4B7-F2E7-47B2-84F8-C63EB02C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436B-93F3-4ACE-80D9-B84B0691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D061-5FAD-4EBB-A9AF-6BD10BC3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9874-B847-4D9A-8081-5B64AEE7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4118-AEB4-42E3-B5AD-8212D1FE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D5E448-BDA3-47B5-9D72-E86C43F53A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