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951840"/>
        <c:axId val="20846413"/>
      </c:barChart>
      <c:catAx>
        <c:axId val="959518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846413"/>
        <c:crosses val="autoZero"/>
        <c:auto val="1"/>
        <c:lblAlgn val="ctr"/>
        <c:lblOffset val="100"/>
        <c:noMultiLvlLbl val="0"/>
      </c:catAx>
      <c:valAx>
        <c:axId val="208464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518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BF18-E18A-488F-8238-C74FEFC79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4594-4D1B-48C9-B051-C8EB7690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1AE7-8AF4-441A-A8C6-C4093B1E2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AE5B-802D-4F06-804B-EF423408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95A9-B5DB-4EB6-8BD3-088DF7D5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54A5-F9FE-4907-BCF8-26DD25EE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C27F-5607-4F6F-8C7E-BEDB80638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B883-27D9-4FB6-B553-4231AD12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2902-B6A0-4515-8E4E-A7361C39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DEEF-C71B-444C-B3B4-114D1C10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3859-B288-4395-851B-BB836997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3D14-043C-4BCF-840B-224CAA7F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B8F0CC-A5BE-4818-89B4-7CEB37F7B1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