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88106"/>
        <c:axId val="88149036"/>
      </c:barChart>
      <c:catAx>
        <c:axId val="56988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49036"/>
        <c:crosses val="autoZero"/>
        <c:auto val="1"/>
        <c:lblAlgn val="ctr"/>
        <c:lblOffset val="100"/>
        <c:noMultiLvlLbl val="0"/>
      </c:catAx>
      <c:valAx>
        <c:axId val="88149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88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812-CD56-4684-92D2-48572D35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5F8-2F4B-4B80-8999-CC954DDA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4E0-E0F1-46D1-A27D-E62E4412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3A8-8696-4B14-AA76-DE71608E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253-18B5-460B-89F6-FDF8D73D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334-F203-44F3-A1DD-B5CE8227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526-9A13-4D7C-A984-2446C3C6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46E-B813-49E6-BAFA-968A2F6B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BF6-C0A7-45A0-B484-71C108B2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A8E-5C9A-4480-9F98-DC51477F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7BC-312A-4229-B6EF-6E95B09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7AA-BDA9-4DA7-B0EB-8508D0F7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F75BB-B474-4660-B6E4-DFF43D2DD5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