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37826"/>
        <c:axId val="90097893"/>
      </c:barChart>
      <c:catAx>
        <c:axId val="110378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97893"/>
        <c:crosses val="autoZero"/>
        <c:auto val="1"/>
        <c:lblAlgn val="ctr"/>
        <c:lblOffset val="100"/>
        <c:noMultiLvlLbl val="0"/>
      </c:catAx>
      <c:valAx>
        <c:axId val="90097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378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2D3-F260-46F7-82A0-34E4BA3A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30E-4907-4D18-AB96-23DB1F02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4DE-7445-44F3-9B91-77D96C7A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29D-52EC-4797-B753-DB3C0C6A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B33-7842-431E-840B-3B41C933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485-4E9C-4F14-85E1-D05B53F2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7919-3248-4FDA-B17B-73E72742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064-C8A4-43CB-935C-48C33DB4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22F4-7620-47AB-99A5-E05E572F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46B-5BBC-424E-966C-FFBC99DD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65E-8119-42F2-A85C-A60617A6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4AD-2ECE-43C0-A1CC-E04F611B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7E5B6-5524-4CC7-8DB6-13257F495A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