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230605"/>
        <c:axId val="16044618"/>
      </c:barChart>
      <c:catAx>
        <c:axId val="502306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44618"/>
        <c:crosses val="autoZero"/>
        <c:auto val="1"/>
        <c:lblAlgn val="ctr"/>
        <c:lblOffset val="100"/>
        <c:noMultiLvlLbl val="0"/>
      </c:catAx>
      <c:valAx>
        <c:axId val="16044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306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EC9A-C591-4220-BFAC-89AF2ADB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986-03BF-4576-8E8F-80814293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C66-5881-4191-B395-5CF36D74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93A8-FA1D-4D54-B494-D53292E3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900E-6C48-426C-8ED7-AE812731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ACDB-2ABD-42E5-AC08-0CADE2A7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E1D3-841E-4323-9599-36DADC9B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12AF-5172-44BF-81CD-58C50C5F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26D6-3444-4716-875F-681B1320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D279-7ECE-4401-94CE-16B83AC2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F529-4D7F-4AE7-8CD7-FD46EE27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4B00-CD17-49E1-A378-86A13D78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FA639-6420-438F-8852-AA876F79DA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