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754598"/>
        <c:axId val="84978728"/>
      </c:barChart>
      <c:catAx>
        <c:axId val="66754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78728"/>
        <c:crosses val="autoZero"/>
        <c:auto val="1"/>
        <c:lblAlgn val="ctr"/>
        <c:lblOffset val="100"/>
        <c:noMultiLvlLbl val="0"/>
      </c:catAx>
      <c:valAx>
        <c:axId val="84978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54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73D0-7B6B-44EA-BF80-C2E8E54A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2F5-9E1A-41D6-8151-149BACF6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C99-CF2F-44F5-B8B2-4142272D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103-BBD7-4654-8DA2-E0FCF0A9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380-0C25-49F4-9A18-645A5268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324-0504-4FDF-8DA5-9AEDC995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181-7E14-43B9-B95A-CCA19356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2835-A485-4380-BD3B-9429B046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DA9-9F27-42AD-BAC7-CF2A4C4E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E827-3BB4-49C1-A61A-5F2CE8F5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612-BC1D-42EF-8B62-E65282DC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326-F128-4413-B30A-A6D30AC1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D25D2-7338-4E8A-BBEE-4CE8814B23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