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33597"/>
        <c:axId val="18110643"/>
      </c:barChart>
      <c:catAx>
        <c:axId val="75433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10643"/>
        <c:crosses val="autoZero"/>
        <c:auto val="1"/>
        <c:lblAlgn val="ctr"/>
        <c:lblOffset val="100"/>
        <c:noMultiLvlLbl val="0"/>
      </c:catAx>
      <c:valAx>
        <c:axId val="18110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33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467-524F-44A7-A1A3-506D5A42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2CE-1AD9-45D2-AEC9-097AB8D2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37B-5674-444E-B927-9E85FBD3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9A5-F8CB-4709-92CA-647599F1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9BF-790D-47F2-9080-1D306FE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3E3-C221-4EDA-AFF4-A3950CA7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F75-5D4B-4F01-98FF-3F827946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68C-3F76-4F92-B49B-FD1131A3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E22-EA29-4B21-9B49-A5C57D18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082-3930-43C4-9476-382C64B3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E40-34A0-4BAE-9ECA-09804560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D74-C142-4F03-A35B-3AE6DEA2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A4C74-12CB-4122-97E7-408A3A2623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