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22604"/>
        <c:axId val="89551130"/>
      </c:barChart>
      <c:catAx>
        <c:axId val="51222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51130"/>
        <c:crosses val="autoZero"/>
        <c:auto val="1"/>
        <c:lblAlgn val="ctr"/>
        <c:lblOffset val="100"/>
        <c:noMultiLvlLbl val="0"/>
      </c:catAx>
      <c:valAx>
        <c:axId val="89551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2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897-93CB-4336-A31F-9C741EA9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A02-5CE1-4992-BEDE-B9DB51A5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1D3-2F34-4A04-AF9A-28F634F4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E87-3503-4891-A973-724363F8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21C-38F6-46CE-A9D2-3946D6EA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CAB-D064-4193-8BF6-E19F21F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981-515F-4A0B-BAD1-5CCD03C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CC9-851A-45C1-BF6F-C2B5DDA8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D7E-39C1-4BE8-8031-1C86964E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055-9145-4CCD-BCE9-B7E9928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64C-6DF3-4EDE-96C2-18E3AD1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243-C624-4DF2-AB94-F3613489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2B860-1C8B-4DC0-908F-4B7755B33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