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23348"/>
        <c:axId val="44229015"/>
      </c:barChart>
      <c:catAx>
        <c:axId val="43523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29015"/>
        <c:crosses val="autoZero"/>
        <c:auto val="1"/>
        <c:lblAlgn val="ctr"/>
        <c:lblOffset val="100"/>
        <c:noMultiLvlLbl val="0"/>
      </c:catAx>
      <c:valAx>
        <c:axId val="44229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23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EC1-B9F5-4E3D-8890-03D1284C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CC5-FC8C-4EB2-8D7A-F8A9A3D2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9D8-4211-473D-8C8D-C41A4A45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F95-1BE6-4D95-BBD4-FBE73CEA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63B-6CCF-452D-8B2B-19FE762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2B0-A3B4-4FB2-A991-B8FF792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31C-E75A-4199-AEF4-8C3AC5CE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8AE-BE9E-4F39-8F03-2753F98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492-D2D2-4CE0-9A12-82EB3236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B56-EECB-4BBF-8226-8CA604E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2CB-E84D-4482-821F-0AF97A7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C5E-C2D0-4DA6-8C15-F711158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A2CA0-7D5B-49E6-8A74-5D30CF901E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