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55479"/>
        <c:axId val="62553788"/>
      </c:barChart>
      <c:catAx>
        <c:axId val="60355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53788"/>
        <c:crosses val="autoZero"/>
        <c:auto val="1"/>
        <c:lblAlgn val="ctr"/>
        <c:lblOffset val="100"/>
        <c:noMultiLvlLbl val="0"/>
      </c:catAx>
      <c:valAx>
        <c:axId val="62553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5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A5E-7A96-4602-9763-C638E11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ABC-E9B7-452B-99CE-EBFB620B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B64-DDDD-45A6-B2CF-091C01D4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D24-F98B-4A94-B733-7AD2331D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AA7-2C7D-4517-B86B-123DE4F9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8E8-E304-4830-8F2C-DB15603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6BF-2D8D-481D-A481-364C840D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C77-83BA-4B97-8AC5-F60B55B3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BA1-BC5B-4D29-A8F1-5179556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A73-6504-4004-84E3-16D4898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1C9-C5BF-4C81-BF9C-88EE3D3E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E00-89B1-4C7B-9F0D-3B0A7A9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9873-C54E-491E-A608-7EA4374E8D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