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16A0C4-2393-4CBC-BAEA-43B80542C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29B00-69C0-47E1-830F-56254035E4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D851F5-350A-4A09-9EFD-69FDACD98A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510253-AD38-4FD9-A9C0-225CB25718F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80EF26F-6C34-40AC-8E46-CAB8767349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BE3A4FC-7A58-467D-BD0F-8ACC915C4B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56A8EE-7BD4-407A-AB9E-C88248DBEE6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7BB51F5-307C-4329-9B1E-5BCA7616A1A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2C2A95-0182-41CD-8915-19D407A61BA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A77583B-7D44-494D-B251-38E6F0AA12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67A4F1-A534-412F-B7F9-4D95A53D89E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C7D90D-E327-4C72-AEAB-6E60EF7A3E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6040BA-A2BB-419D-B862-96CEF83AED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AB4B18-7C16-412E-8887-C9892B62F4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E374C2C-7DE5-46B8-A670-5E22395D9B5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6A4F15-31F4-4EBC-BE09-2674F0853C5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9E0AB32-1A7A-4EB5-9F24-D326CF653BF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D05DD2-8139-4CD8-B574-4FAF700042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65656A-1276-487C-8C9C-2C8A567CA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D4DB38-A0C4-4C36-8AA0-4F6FD095C5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355DD3-7B81-4A28-9763-FD3FAD0C53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1B3140-7A3B-4862-A1F5-A76C447BE04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07D1B9-675D-48D9-B102-F07D189B59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CFCE34-76DF-41FF-A33E-135B6302F67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875179-8E57-4F60-B15B-1B1FE4CD1A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275C4-A373-4318-8503-B7049DBA97C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DCF204-0254-4C50-9EA8-9F881979D00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6302143-8FDB-43C9-9249-DB9BB304AF5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4722A3-EBC7-40E8-8AB1-DE7233D1202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6FA67-B2A3-46B8-BE9F-332CF7875564}"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2C963-A48A-4057-B3D8-6F696F4F9B27}"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1F7C07-A9E3-497F-9ADE-DD0CF513356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3D4802-48EB-46EE-9C2A-DB96F2A0F2CF}"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78ED10-FEFC-46BE-9E71-5BA20E332972}"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FFE07-027B-4970-83B4-82D2667B201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BBB3A9-E905-4453-8BE9-60767A0F15BA}"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70E1BD-60C7-46A0-897B-263125893C1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E7B68-FA68-480E-AFA7-55DEF98E9AF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EDC51-8FBC-409C-BE2F-C8BD24303DC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E7F09A-EC41-4152-92F0-895FB3FD8D1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77896-9B6A-46DF-AE9C-3EA4C750790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BC6FE6-CC4B-4ED9-B4B7-ED7A4E3C3A5B}"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ABD213-DDD9-4B9F-B1E9-482D43EDEAE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DC400-A5E0-40F7-9E40-626F7C6FBD3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EAB55-6958-4834-BC28-72259E8B4E40}"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2B0E8C-9E49-4B43-B82E-A49956A9C77C}"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68E8FD-94CF-4265-9666-9BF49A253A1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217BA-1DD1-497D-A60A-F881DE627DF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F6A772-C2C4-4B5F-94E4-9F481DA3D04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2570AC-3A1C-4F72-961E-5D14BAE195AA}"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1DCF2B-D03D-454E-A5CF-C860BDC1A222}"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AF288-E34E-4C8E-85EF-6BE95E85D40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309141-24B4-4068-BB56-017BF601D45C}"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FF6305-F113-4544-AC4E-058A6AE4273A}"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3E1DF-5D53-4324-817A-0DDD4AA31CE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D6D28-7DBF-4BC9-A284-2F0BFD11D0B7}"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CEC25-91DD-4614-8070-FC3E495EE0C5}"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5EC34-E0DA-4A81-ADAB-FEC056DCD15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538C9-7E4B-4795-9D62-EFAF802460BD}"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C72125-7A42-4FA8-A14F-40F7304DD3C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1BCF7-EF4C-4EB6-BBEF-0A34DBDFA84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4C4573-B728-4DEE-BC4E-F107230E0114}"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A1292F-007E-47FF-A78E-EA63C3B4AD3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712EBC-1C10-49B6-B0E3-21F6342573C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5E59E6-E8ED-4FF8-AD4E-031C94971210}"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529DA5-15D1-4376-922F-D03D2486002D}"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6BA446-3553-43AC-B93C-AC96A9F9A889}"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00010-919D-4933-82DF-60380A3E4FD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DF429-F005-4DC5-B798-2A8863A2B2A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D4DB1-8E6E-47F5-86CE-2038707C55C6}"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9F3B5-6F6D-4851-AC10-2EDACE17BF2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7873C-F912-440A-9CEC-7ADC2949C84C}"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1F734-1A74-4841-BC0A-D4B7A758456F}"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2DBEC-C8CC-48BA-86F1-9F6680671D3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A8AA537-90B5-4B63-99E1-9031686172A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44833-1B31-49A4-98FD-27D6C6EC764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E1616C-97D4-4BC6-94F1-71D693A05BB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BF6C3C3-286D-4347-8BBD-88B09CC7788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71148B-BB68-4B4A-B269-6EFE4D7CEAF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90C2AE-F412-4578-B68D-FF7690E93F11}"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D3F85-6D7D-4BDD-B4F8-58CE1D78C80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392CB-0574-4C4D-B05D-9424409D7434}"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A9D5A2-85D3-4014-9942-3077D923AF4D}"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040DB-66C0-4FFC-8323-50B019DE1E0D}"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5EE11D-6EA4-4D45-9B67-8AC12F98AE3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F538049-12C0-4D96-8D89-8CBD8BDD541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15458-A67D-48EE-A6FB-AE5FCE1BA922}"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71E0F7-3666-40C6-8761-03B46DB4500E}"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2024A-44FE-4B4E-9084-97197178394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F66D7-D3DA-4498-B112-892C42548216}"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B102FE-B73F-49B0-A41F-4B535563E6CD}"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0F276E-954D-41EB-B84D-19E0774911C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CECB68-3CE1-4475-B6AB-4D0EDFFB2E5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935E03-0F19-4FE4-B9D0-4DE1B0DF39E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D7F426-0668-47DF-B218-E978E3B7E08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386C08-47F7-45DC-8D9F-4D58FDB5250E}"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9CF975D-CE32-41B4-9489-DBB5BD3E3A50}"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6E0A95-19CD-4C63-B4F3-FFFCCC6C4B2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DC2A16-E64D-4F1F-B7D7-40D904DBCCA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666178-BBF9-482B-9AC9-807A8772587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39B75F-8D44-4296-A202-92DB6ADAB6B7}"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C987EF-19F1-4639-956E-1A5ADAB29EDC}"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28B7B-7D07-4CF1-859F-45C22E6CB67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3D14FDD-C7C2-4E10-95C5-F97D6979153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66703-DAEB-4F82-808E-FAC33EE2C81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B58FC2-E64A-4B34-8D35-8FA02A4EDE06}"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CE56A4-A3A5-4A02-BBCC-54F231443ADB}"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B1F7944-5778-4A27-9971-688150B0121E}"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3D53EE-ADDE-4F8B-A096-F11A58BE1BB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C449BC-0B4F-4FB0-AD42-85547C72407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31C5CD-5E57-4CC7-8A1C-38605E34776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A5028-2F17-4887-87F3-568554424402}"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E29395-5491-408E-8455-F79EE7DA1F0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6274EC-21F9-4DE5-A407-FE95CFFDC71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6D063-4CE4-42E7-9D44-C4592D20B92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D37B2C-7ECD-4FA9-A9D3-B5FE4A6047B1}"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035AAA-BA88-4930-AAF3-8E5F5C3FE00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6A5BC9-6CD6-4516-99D1-A63FCB2DDA78}"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E538B1-38BB-4CE4-BEE9-4647A60DE326}"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9F0758-254C-4DF7-A333-E15798025DB1}"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2048C-5AF5-4FA7-A62A-85B123946B8F}"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2C5536-A7DB-4FDE-9BFA-7F0EC3346DA9}"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42CBD3-5DEB-4792-854D-B12FC1D7D88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FFC8B-53BA-4653-96A5-FC33A16EA860}"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412E4F-30CB-4F71-B484-5E43342381C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FD2220-4756-45BB-B6AB-4D661D143D0E}"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E375AC-6636-4FDF-B116-DD8F2E40637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F0FF6-9894-4AFC-8DDD-7FA5E6D03FD0}"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3FDD51-7652-4923-9D41-32BC5932500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CDA3E3-A9DF-41DB-B7C4-9BB2204C20D6}"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DEC56E-311C-4A9E-B468-56F5721D80ED}"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03171F-DF47-4935-8395-0011B3F0ECEB}"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6A9693-1970-4057-8A5F-7EFD8E2F9BEB}"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73D923-35B6-47A6-B65E-D36A84E435D7}"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290452-06A7-481D-9870-7BA8E3F9A37D}"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6F863-ADED-4BB1-B945-05D6BA431E58}"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EEA50-1DAA-4BA6-A86A-9C95309D0ACE}"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75C25D-676B-4623-B6A1-A50E43B860E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1054E-4BDA-46F2-87D4-28899AF841F5}"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30E7F-EB83-439D-A675-6676755FED7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48BEC-E1CD-4F25-AD99-485FF9EBB11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DF3FD5-C052-41A9-BCCD-C5ECE238DDEB}"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C8153A-52EB-4CE2-A076-187D62522298}"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37601-376B-474D-83DE-6617F44F6235}"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DB0B1C-8CF7-418F-99FE-39A6D97E0CFC}"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E2FEE5-4C91-4B49-B469-1DA6B9D01BE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A67946-F3FA-432C-AFCC-248D8DD70EE6}"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F1E000-2EEF-4255-A3CB-537B786C79B7}"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1092D9-C851-4C88-9541-FA84FEC2D2E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FF2B59-C962-4B28-A84E-BE98D8BA9376}"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9A711-3BD3-4E79-8443-67153A53E1D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ADAB9D-AB34-4BFB-B812-D5ECBE02C38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553AD-93CA-4608-B099-B8D8457876B1}"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FA204E6-29AC-454D-A58B-1EC6D596DEA3}"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2F00F6-B431-470D-8E4A-695B6E541C6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BA30F-175A-4D13-ABD5-EEF30C2884A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FF1BD6-494D-4AEF-9ADA-1587AACC164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786895-04F0-48C5-A770-2A7C00E8B5B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21B33-80F7-40F5-B154-EAF79860E26F}"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EDD880-282D-4FBB-9162-37597C7AAC8A}"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3BCB0C-9469-49B7-B6B6-23E7D53BDF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36090D-34DE-4A78-9405-B4F70931A14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49D64B-7E9D-488C-9933-E22C86AED27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338FE9-000B-4891-BA80-CDB8BB5058E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E97DD-6CC2-412C-A5EC-EF072B68CBF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48831F-CD1B-4F2A-BC15-2C2F8772F7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62C3E-7D63-4607-920A-D6EA6B4E1703}"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70AC4A-BF01-4F94-B013-CA61ECCD19DD}"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54622-E30F-4525-B2C4-2757FD1CAACB}"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798E0D-8092-4316-A45F-EEC45FB97A9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CDF03E-9BC4-45A0-B283-76FACFF5112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0E1CB-5C74-4B59-BC24-285FC1E106FE}"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1BE211-E482-473B-8765-897D71EC97F9}"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BEDC7-82F4-4DF8-BC2A-97E2B0A7C9A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3D94E-D4BE-4DDA-91E9-27EA23466AB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961FA-5216-49C2-B435-73491F22222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5E947F-D87C-48C7-9154-47FD798C4A0D}"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ACE18-3FD7-4B44-B044-A17E4232D82A}"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F2F07-5A1C-455F-A520-447C326822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DC0AE0-863E-483A-9461-27EB37A99007}"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2CD346-414E-424F-B6CE-880799DD716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7217A-2728-424C-8734-928A5EBBD347}"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03FE87-263F-41C5-827C-064F9A32F6C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7E233-98E4-4390-AE47-58C26E7B7FF3}"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73279B-0870-4574-9C20-D417D6425F2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D76A7A-066E-4AD0-8188-B07F940E2E7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F86685-2FE4-4EFC-9BE8-D4F90E4E9C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0EE375-40F8-4D48-B76F-6045AD91CE8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A8DE07-04D5-445E-86D7-5FA19EF9B00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474B11-26EC-4D80-AF47-3DC9EBA6D49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7B6421-EA03-4C0D-91D3-26C446B25E2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225D92-612E-4D8E-9474-798E5B546AA1}"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4131CC-4077-4A36-A565-42BF6631A18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B956BF-E806-4F5F-878D-6931E0454530}"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F61B8-4B36-42B0-A513-04EC062B1A73}"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46674-A3EF-46FD-AFB2-99C1D380DDD0}"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5FC2D1-D3CA-4B18-B191-523060854771}"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45FE5-6B29-48E4-A7C7-0897DEF165D3}"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493540-8A0D-40D2-8800-02456D3FF7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9B0F9-2CB9-4C4D-B70D-950CBF9FB8F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62876-3312-4F3B-BB13-822D7FEAF0A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37A106-25D2-407A-AF66-577CDE99A7A1}"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BB9EB-AA4A-4D3F-81EF-7DD41D228EC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FAEF6-97B8-4E2A-B10D-1D911F82DC8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89C53-CA96-457B-A05A-585F24698071}"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9622D7-76A8-43B6-8DE6-00F59170FFD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AE719-5109-487A-972B-E7BA60FE7F9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642835-0D62-4AFD-A740-BD2DB863BB1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3FA72-26D7-4C31-9E86-85DC5A3E5327}"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FCD9C8-DE2B-47D8-8442-CF8D166DBC54}"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E4D9A75-C0C2-4148-94B8-25F612233F8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EBCE19-9744-45F2-ACD5-3E1E274E46C9}"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8D129-029D-4BD3-978C-977BCEFF619F}"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7CF88-FE6B-461B-9062-0D8F0ABAB2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BD0DA-B91F-4078-BA58-B96AA64C7C10}"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501AB-D7FE-4D59-8D71-31A48E4917C2}"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FC3B0-7173-41FF-B1A6-29FC1EC0065F}"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04E9C-6C58-42BC-9C59-FCE9F79AC99F}"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7B852-0959-4C59-A6A8-F0B8DED48C4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A120F-8080-414D-ADEC-2F9C33459C5B}"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31A24-34C7-4AC2-BCC5-BE8442263A5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16435-5728-4C1B-9A81-5794CC719419}"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F59383-79AB-4934-B02E-D0801B8B6D44}"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DA936E-469E-49C5-BFC8-C7D1D71EDB8D}"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10CAA9-639F-4A32-8098-9C7DD05A5598}"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6ADD21-425A-4349-A94B-85DD67A068A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F7A7FE-CC3F-4BE6-85D2-798F9FE17AF5}"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6FFA05-BD5E-482A-94CC-817F8B2340F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E6855F-153C-4B9B-99B1-706523BB9C64}"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9D37A9-3C5E-44B1-81E5-316254BAEFC2}"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B942D-BB4C-484A-BB37-3E2089F110AF}"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BE1BD9-A7C5-4746-B919-A2FD701C48D2}"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EAF2E-2087-465C-A449-3649EEADE162}"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092646-B8C2-4E28-B32D-DD92F970A6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4AC21-37C6-4A53-B1CE-87BDEBE5EC3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67AB9A-A5E0-45C7-BE7D-2E10EA9AFDB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1324B2-9F15-42A3-842E-59FEA37DB11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369E3-93AD-4819-A363-4BE829CBEE1B}"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B8253-BCF1-4FE2-8EAF-118588E77FE4}"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