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40021"/>
        <c:axId val="10001425"/>
      </c:barChart>
      <c:catAx>
        <c:axId val="14040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01425"/>
        <c:crosses val="autoZero"/>
        <c:auto val="1"/>
        <c:lblAlgn val="ctr"/>
        <c:lblOffset val="100"/>
        <c:noMultiLvlLbl val="0"/>
      </c:catAx>
      <c:valAx>
        <c:axId val="10001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40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CD9-B125-41D8-9495-45FA0860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378-7EDF-42A7-90A5-8EA1248C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AA4-A70A-43B9-B2B2-17A62F62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980-B73A-48B3-B53D-CCBCC310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C34-2189-4DB0-9964-41A102C7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EC8-2E1F-4D8D-8977-956A1E61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987-09E3-4C4C-AA04-E5231C69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4BA-A645-4D7F-87A5-6B777F43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82F-C51A-4C76-A11D-A943D964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0EA-7C1D-46CF-8F0E-2C780BD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3D7-F1F0-45FC-A380-A2167678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649-D2E4-4EA6-8216-F48EE9C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E3A0A-DCC6-4D43-B68F-A4A0B58548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