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40297"/>
        <c:axId val="70533897"/>
      </c:barChart>
      <c:catAx>
        <c:axId val="37940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33897"/>
        <c:crosses val="autoZero"/>
        <c:auto val="1"/>
        <c:lblAlgn val="ctr"/>
        <c:lblOffset val="100"/>
        <c:noMultiLvlLbl val="0"/>
      </c:catAx>
      <c:valAx>
        <c:axId val="70533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40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0FD-2EF9-40D5-AFC7-58C31869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9A2-C279-4646-9E66-21C07B5A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9F8-2B21-45A7-86E7-BD4D47CB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05B-C3D8-4530-8360-A034B483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8DB-A2B7-4574-BBA0-B8C934D6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5C3-FEBD-4930-B94F-3EEC4A5B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DAA-2FAD-4FEB-85E5-6466C055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259-3F37-418E-B9DC-24C5002F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2E3-CCC6-496D-AAD9-62D9DFF1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D45-E2FA-4784-8089-64DC29C5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07C-756E-4881-8870-0D571B85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697-4F5E-47FC-8FC8-7D416272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7F33D-C87F-4BC1-8E27-0DBB6505CA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