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34026"/>
        <c:axId val="83974852"/>
      </c:barChart>
      <c:catAx>
        <c:axId val="31234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74852"/>
        <c:crosses val="autoZero"/>
        <c:auto val="1"/>
        <c:lblAlgn val="ctr"/>
        <c:lblOffset val="100"/>
        <c:noMultiLvlLbl val="0"/>
      </c:catAx>
      <c:valAx>
        <c:axId val="83974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34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6BF-B928-4ED3-AF45-09D7D356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11B-4EB9-4A7C-A77D-3A7463E9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D48-8972-4DA8-B028-7E053107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B88-7032-4C5A-B51C-45C7DD85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12B-E913-4D6A-86A1-37DEF275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E9C-714C-4B3F-9DB0-7A93819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935-0D51-4633-8C2B-7CBF5357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F33-30C4-4CAB-932F-D4353F79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FEF-FB6E-48FF-A561-8A350C62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C5A-2765-49C3-B469-603FBB1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D75-D9F2-4DD8-B127-6EB76CD8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B66-7DEB-4D45-BF4E-EACFD70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24F16-9678-4FDD-AE74-C9436DB19A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