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20921"/>
        <c:axId val="80371448"/>
      </c:barChart>
      <c:catAx>
        <c:axId val="30820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71448"/>
        <c:crosses val="autoZero"/>
        <c:auto val="1"/>
        <c:lblAlgn val="ctr"/>
        <c:lblOffset val="100"/>
        <c:noMultiLvlLbl val="0"/>
      </c:catAx>
      <c:valAx>
        <c:axId val="80371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20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B50-DCB4-485F-87FC-635CE9CF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BD2-D4CF-43EC-B009-E3E4CC4A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514-EF6E-462A-9F35-E92FF6A1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38E-041A-4612-8CD3-948870CE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C74-3874-4D37-BC41-318D8750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DFA-D18E-4414-9E90-A10F1380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0A5-D7A1-4DCD-9B79-AE34BFAB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5BA-0F2D-457C-BBD3-AB47740E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259-02D1-433D-9366-D9EB3339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BAB-B0D6-4DAA-8039-102D51EE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99C-6F27-49F2-9697-6000F039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F2B-5DD1-4F02-857D-BE4E192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ECB4A-70B4-4653-9A03-D52DAA34DE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