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236586"/>
        <c:axId val="41642511"/>
      </c:barChart>
      <c:catAx>
        <c:axId val="34236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42511"/>
        <c:crosses val="autoZero"/>
        <c:auto val="1"/>
        <c:lblAlgn val="ctr"/>
        <c:lblOffset val="100"/>
        <c:noMultiLvlLbl val="0"/>
      </c:catAx>
      <c:valAx>
        <c:axId val="41642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36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F7E-C6DC-48E1-8AC4-30ABE8D0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D12-AC76-49DB-8F22-3F7A7926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2CE-829D-4F79-AB98-E8B269E8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D789-C58F-4231-93A6-67DAC952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D79-1C9E-4BEF-B7BE-DF2A7E61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613-D11C-40AE-852A-3235F9BF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93F-AAC1-46AE-956B-0668CD9A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797-9796-43A4-81E7-162B98A5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77C-49D3-493A-ADB2-07A6C0DC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6F6-8F51-4A48-A7C7-203A949D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E97-B883-4F12-8CB5-8946296A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051-4170-4DCF-8FC6-63860564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5589A-5CCB-4EF4-AC38-F134890E7E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