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21122"/>
        <c:axId val="79670932"/>
      </c:barChart>
      <c:catAx>
        <c:axId val="28921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0932"/>
        <c:crosses val="autoZero"/>
        <c:auto val="1"/>
        <c:lblAlgn val="ctr"/>
        <c:lblOffset val="100"/>
        <c:noMultiLvlLbl val="0"/>
      </c:catAx>
      <c:valAx>
        <c:axId val="79670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21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7A3-790C-452B-910B-C964B7FA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74D-CEAE-4A6C-8619-87F999A7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13B-8AA9-443B-8F4B-9795D134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A29-5E31-4266-9E6C-2454F8F7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54C-8028-4C11-9A50-119C9E5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C39-10A4-41D3-9D4E-BBC1851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80A-792B-43E7-A772-21A7F68D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7B4-D687-4420-80E8-29B27E11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DB0-A2C9-4B80-A52C-5A204387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8C7-304A-45B2-975E-4BD91292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AD5-4441-450C-968D-51E43E0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993-D017-4B1E-B93E-8F32AD9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4DC9E-8D0D-4F1D-9668-BA1AD9F27B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